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8.jpeg" ContentType="image/jpeg"/>
  <Override PartName="/ppt/media/image38.png" ContentType="image/png"/>
  <Override PartName="/ppt/media/image9.png" ContentType="image/png"/>
  <Override PartName="/ppt/media/image34.png" ContentType="image/png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3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1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C337-6E6E-441C-949D-7BA0286B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720-1D57-48C4-BD03-B2D3CFE2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7E5-45A1-41ED-97D2-47956F3E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1C60-E6E2-4B93-9482-8F8C9C4D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6A8-C178-48CD-90F5-5BE722D9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D31-301D-4D29-B9DB-A82FA4AF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804-CE79-4091-A72E-DF002C3D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B1A-DEF3-42E0-8960-1CF5A8E9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BB0-3DB3-4910-91BF-C3ED63FB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294-7CDD-430C-8B75-D5DA18A4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745-CACB-460A-8436-CDE52BF4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1AC9-048F-4EC9-ACAF-527D58E2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6ABF-0F81-4AB1-B285-23C2AB4B2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athematicsworld.blogspot.com/2010/06/line-design_18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ermes-jo.com/line-designs-math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ykhmsmathclass.blogspot.com/2010/06/line-designs-by-sahil-10d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hermes-jo.com/line-designs-math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doversherborn.comcastbiz.net/highschool/academics/math/baroody/GeometryHonors/Class%20Notes/Chapter%201/Lesson1-4/Lesson1-4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deimel.org/rec_math/family_1.htm" TargetMode="External"/><Relationship Id="rId2" Type="http://schemas.openxmlformats.org/officeDocument/2006/relationships/hyperlink" Target="http://deimel.org/rec_math/circular_1.htm" TargetMode="External"/><Relationship Id="rId3" Type="http://schemas.openxmlformats.org/officeDocument/2006/relationships/hyperlink" Target="http://deimel.org/rec_math/general_01.htm" TargetMode="External"/><Relationship Id="rId4" Type="http://schemas.openxmlformats.org/officeDocument/2006/relationships/hyperlink" Target="http://deimel.org/rec_math/cube.htm" TargetMode="External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ykhmsmathclass.blogspot.com/2010/06/line-designs-by-sahil-10d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Line%20design%20creation.pps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athematicsworld.blogspot.com/2010/06/line-design_18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stellar"/>
              </a:rPr>
              <a:t>Line Desig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1 – Strategies in 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 page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thematicsworld.blogspot.com/2010/06/line-design_18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66680" y="10666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 Page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ermes-jo.com/line-designs-m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5562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esigns are made by pencil…</a:t>
            </a:r>
            <a:br>
              <a:rPr sz="3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 Page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ykhmsmathclass.blogspot.com/2010/06/line-designs-by-sahil-10d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ome designs are computer generated…</a:t>
            </a:r>
            <a:br>
              <a:rPr sz="28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Source Page: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ermes-jo.com/line-designs-ma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0" y="1523880"/>
            <a:ext cx="4786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 Page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oversherborn.comcastbiz.net/highschool/academics/math/baroody/GeometryHonors/Class%20Notes/Chapter%201/Lesson1-4/Lesson1-4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676520" y="1600200"/>
            <a:ext cx="57942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 are some of the same patterns with different measurements or co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08320" y="1881360"/>
            <a:ext cx="424476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designs are created by drawing straight line segments evenly spaced a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xt slides are nested squares. You can see how the picture changes when you only connect some of the segm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ame that holds the lines are usually an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en there are circ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47056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333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170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ly, the straight lines seem to form a curve or parabolic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e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14680" y="2266920"/>
            <a:ext cx="57150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69343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5681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2485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 for watc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ve Stitch Designs: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eimel.org/rec_math/family_1.htm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rcular designs: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eimel.org/rec_math/circular_1.htm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izations: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deimel.org/rec_math/general_01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ve Stitch Isometric Cube: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eimel.org/rec_math/cube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cquired through Bing Search for Line designs, Line Designs Geometry, and Line Designs in M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495680" y="1600200"/>
            <a:ext cx="434340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times the angles are alone…</a:t>
            </a:r>
            <a:br>
              <a:rPr sz="4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thelinedesigners.blogspot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1148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times the angles are combined…</a:t>
            </a:r>
            <a:br>
              <a:rPr sz="36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 Page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ykhmsmathclass.blogspot.com/2010/06/line-designs-by-sahil-10d.htm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057400" y="1371600"/>
            <a:ext cx="477216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 is a look at the process used to create a line desig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e Design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pages will show you some of the different designs made with straight lin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Design by ~kaprkorn on devian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25780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Source Page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thematicsworld.blogspot.com/2010/06/line-design_18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7053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00:04:15Z</dcterms:created>
  <dc:creator>JKuhowski</dc:creator>
  <dc:description/>
  <dc:language>en-US</dc:language>
  <cp:lastModifiedBy>JKuhowski</cp:lastModifiedBy>
  <dcterms:modified xsi:type="dcterms:W3CDTF">2013-03-15T09:18:20Z</dcterms:modified>
  <cp:revision>15</cp:revision>
  <dc:subject/>
  <dc:title>Line Art Design by ~Atombombday on deviantART</dc:title>
</cp:coreProperties>
</file>